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FCA-EF60-44E8-B44B-DF10622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922-A79C-4135-A1C5-2D399752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94A-0187-4D83-8570-1A9E20B0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F4E-2838-43C3-94EF-107F7EE2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AC9C-40CB-44E3-9F3B-F6DBF718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9128-4AEF-4D16-8107-7ED14B0B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37F-BD10-4A23-B430-3D9F91ED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CF1E-1A88-42CF-8951-111CBD9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5CF5-11E4-4738-AAD8-383E23BB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65B-BF0D-4EDF-8849-7C7C61CD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C4D-5F6E-4CAF-9524-B8AEF0E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BD6-1E77-448A-8296-8F883B6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8DF4-47CF-4EA7-90EB-C4BBD68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CFD3-CF39-4DB9-B1D0-8179D71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D89A-9607-4640-B05B-BDA51E5D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D20-3BEC-4E0B-81B9-BD3C7E1C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B6BE-FD2A-41FC-A3B8-4F75267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B86-0B52-457A-8772-7047EE92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325-3394-4B4C-92C2-F90E6921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8C7-5489-4154-99B2-7249190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0A1-75EE-48C6-9D27-E57591D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1C5-1825-4290-B96B-8B095A9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BBF-6401-4C63-83BA-FB7B3C9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E24-67D0-4E16-A4C0-6A8E32D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435B-4DD0-4809-A529-E0A0C8ECD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770-C1E0-4B89-91A8-EAC3815C9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hyperlink" Target="http://www.chicagotribune.com/media/photo/2008-07/41072194.jpg" TargetMode="External"/><Relationship Id="rId4" Type="http://schemas.openxmlformats.org/officeDocument/2006/relationships/hyperlink" Target="http://www.chicagotribune.com/media/photo/2008-07/41072194.jpg" TargetMode="External"/><Relationship Id="rId5" Type="http://schemas.openxmlformats.org/officeDocument/2006/relationships/hyperlink" Target="http://www.chicagotribune.com/media/photo/2008-07/41072194.jpg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hyperlink" Target="http://www.wwnorton.com/college/history/archive/resources/images/ch20_05.gif" TargetMode="External"/><Relationship Id="rId4" Type="http://schemas.openxmlformats.org/officeDocument/2006/relationships/hyperlink" Target="http://www.wwnorton.com/college/history/archive/resources/images/ch20_05.gif" TargetMode="External"/><Relationship Id="rId5" Type="http://schemas.openxmlformats.org/officeDocument/2006/relationships/hyperlink" Target="http://www.wwnorton.com/college/history/archive/resources/images/ch20_05.g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Mortimer Pul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3, 1831 - October 19, 18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71800" y="1295280"/>
          <a:ext cx="320040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95280"/>
                    <a:ext cx="32004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eeper Train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llman Company was the largest builder of passenger and freight railroad cars in the world, serving both America and Eur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ast-to-coast rail trip occurred in 1870, and consisted of the newest and best Pullman c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7,500 cars were leased, never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many firsts in railroad hi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stibule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l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m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weight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minum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ulated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570640" y="3048120"/>
          <a:ext cx="3333600" cy="351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3048120"/>
                    <a:ext cx="333360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038480" y="6684840"/>
          <a:ext cx="5488200" cy="173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6684840"/>
                    <a:ext cx="54882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y of Pullman, Illin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started in 1880, and it was inhabited by 12,000 of Pullman’s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wn was designed to make a profit for Pullman’s investors, which meant that the buildings were never sold, only leased. And town water and gas was sold to residents at a 10%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nt was too high for most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bars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19720" y="3429000"/>
          <a:ext cx="4421160" cy="29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429000"/>
                    <a:ext cx="442116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572000" y="6400800"/>
          <a:ext cx="5487840" cy="173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6400800"/>
                    <a:ext cx="548784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io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man cut his workers pay by 25%, but kept rent and other prices inside the town the same, which resulted in 4,000 people to go on str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fused to settle with his workers on a decent p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later investigated after the strikes and was forced to sell his land to its residents after a laws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all the pressure from the strike he became unhealthy and eventually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05520" y="3429000"/>
          <a:ext cx="304776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429000"/>
                    <a:ext cx="3047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388320" y="6521400"/>
            <a:ext cx="57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chicagotribun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com/media/photo/2008-07/4107219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ing Blacks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Pullman was one of the few people in the late 1800’s to employ African Americans in jobs other then far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aid less then white work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for Pullman was better then most of the jobs that other African Americans were off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895480" y="2819520"/>
          <a:ext cx="358164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19520"/>
                    <a:ext cx="35816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526760" y="6172200"/>
            <a:ext cx="67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norton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com/college/history/archive/resources/images/ch20_05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51:16Z</dcterms:created>
  <dc:creator>Yarmouth Schools</dc:creator>
  <dc:description/>
  <dc:language>en-US</dc:language>
  <cp:lastModifiedBy>YHS Teacher</cp:lastModifiedBy>
  <dcterms:modified xsi:type="dcterms:W3CDTF">2009-04-02T14:31:03Z</dcterms:modified>
  <cp:revision>9</cp:revision>
  <dc:subject/>
  <dc:title>George Mortimer Pullman</dc:title>
</cp:coreProperties>
</file>